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67E5-0CA4-4CF8-AF6A-85FF0AB6D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63DC-F21D-4A09-9531-9B498AB8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E9B2-C9CE-4F63-BC8E-FE80C3C80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B368-2430-446A-802D-8996AC4A5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AE02-D2CD-4BC8-8B0F-5636423395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5063-9B70-4674-911C-4BEC32DEC5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8EF0-F554-4128-B779-598D48432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364F-5FDD-483C-8AE4-BC4E5ED29B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FB30-C55B-4D3D-A1DB-84607FB1A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A15E-D5E4-4D00-AEAC-7C464548E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DB1B-75E9-4677-9135-B338509CE9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056F-9F5F-45D5-AA10-F48C0072C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324E-09E0-4EC3-8597-51D3B051A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D9D0-45F9-4AD3-AE69-B7A7DBF4C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D6F4-AB2A-420A-9D04-C6B22F2193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952B-F7E3-499F-99A6-9B0E959E70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A3D6-DBB5-4986-BEE2-5089DAE56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E4F2-1BF3-4567-9ED4-72CA42A25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17E3-EB1F-43C9-8676-36894555A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F545-92DC-4506-8824-05E97C0EA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B84A-F39B-4CE6-989B-23B46EC7C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A2C8-A228-4DDC-A220-5BB997344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055A-2A3F-4746-A8F1-1E860D96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D44D-1C9E-4AB5-B570-57D99D96B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687-67CB-489B-927A-1AE00DCE244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DD8-476D-428D-A8D9-A19E9D79942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Feedback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s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: growth = population x 50%, population x 9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4210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s have limi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population(t) = population(t – dt) + growth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s: population = 60, 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7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low: growth = population x 50%, population x 9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What would happen if growth rates decrease 20% each year and we simulate until time 30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st lec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Line 2"/>
          <p:cNvSpPr/>
          <p:nvPr/>
        </p:nvSpPr>
        <p:spPr>
          <a:xfrm>
            <a:off x="2587680" y="28144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5384880" y="282240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1840" y="24750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59480" y="2532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573360" y="2347920"/>
            <a:ext cx="1800360" cy="936720"/>
            <a:chOff x="3573360" y="2347920"/>
            <a:chExt cx="1800360" cy="936720"/>
          </a:xfrm>
        </p:grpSpPr>
        <p:sp>
          <p:nvSpPr>
            <p:cNvPr id="104" name="Rectangle 7"/>
            <p:cNvSpPr/>
            <p:nvPr/>
          </p:nvSpPr>
          <p:spPr>
            <a:xfrm>
              <a:off x="3573360" y="2347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026240" y="2347920"/>
              <a:ext cx="8938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toc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4220640"/>
            <a:ext cx="85345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eedbac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534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 is how the system affect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587680" y="3244680"/>
            <a:ext cx="9856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84880" y="32576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01840" y="29084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59480" y="29638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 flipH="1">
            <a:off x="3849840" y="3249720"/>
            <a:ext cx="1382400" cy="11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573360" y="2779560"/>
            <a:ext cx="1800360" cy="936720"/>
            <a:chOff x="3573360" y="2779560"/>
            <a:chExt cx="1800360" cy="936720"/>
          </a:xfrm>
        </p:grpSpPr>
        <p:sp>
          <p:nvSpPr>
            <p:cNvPr id="115" name="Rectangle 9"/>
            <p:cNvSpPr/>
            <p:nvPr/>
          </p:nvSpPr>
          <p:spPr>
            <a:xfrm>
              <a:off x="3573360" y="277956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93040" y="2779560"/>
              <a:ext cx="116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3849840" y="43322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opulation grow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5384880" y="347328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6200" y="3124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372360" y="31798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5"/>
          <p:cNvSpPr/>
          <p:nvPr/>
        </p:nvSpPr>
        <p:spPr>
          <a:xfrm flipH="1">
            <a:off x="2745720" y="3465360"/>
            <a:ext cx="138276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9" y="0"/>
                </a:moveTo>
                <a:cubicBezTo>
                  <a:pt x="376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257"/>
                  <a:pt x="21600" y="8915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700360" y="47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587680" y="346068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170028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9"/>
          <p:cNvSpPr/>
          <p:nvPr/>
        </p:nvSpPr>
        <p:spPr>
          <a:xfrm flipH="1" rot="10800000">
            <a:off x="4761360" y="2400480"/>
            <a:ext cx="1538280" cy="10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3571920" y="2995560"/>
            <a:ext cx="1801800" cy="938160"/>
            <a:chOff x="3571920" y="2995560"/>
            <a:chExt cx="1801800" cy="938160"/>
          </a:xfrm>
        </p:grpSpPr>
        <p:sp>
          <p:nvSpPr>
            <p:cNvPr id="128" name="Rectangle 11"/>
            <p:cNvSpPr/>
            <p:nvPr/>
          </p:nvSpPr>
          <p:spPr>
            <a:xfrm>
              <a:off x="3571920" y="2995560"/>
              <a:ext cx="180180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3621240" y="2995560"/>
              <a:ext cx="1703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lbed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2" descr="image.png"/>
          <p:cNvPicPr/>
          <p:nvPr/>
        </p:nvPicPr>
        <p:blipFill>
          <a:blip r:embed="rId1"/>
          <a:srcRect l="0" t="0" r="0" b="11862"/>
          <a:stretch/>
        </p:blipFill>
        <p:spPr>
          <a:xfrm>
            <a:off x="2776680" y="619200"/>
            <a:ext cx="4249440" cy="4124160"/>
          </a:xfrm>
          <a:prstGeom prst="rect">
            <a:avLst/>
          </a:prstGeom>
          <a:ln w="0">
            <a:noFill/>
          </a:ln>
        </p:spPr>
      </p:pic>
      <p:sp>
        <p:nvSpPr>
          <p:cNvPr id="132" name="Line 3"/>
          <p:cNvSpPr/>
          <p:nvPr/>
        </p:nvSpPr>
        <p:spPr>
          <a:xfrm>
            <a:off x="3021120" y="58975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818320" y="579276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692360" y="5560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966000" y="55054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7"/>
          <p:cNvSpPr/>
          <p:nvPr/>
        </p:nvSpPr>
        <p:spPr>
          <a:xfrm flipH="1" rot="10800000">
            <a:off x="5151960" y="4836600"/>
            <a:ext cx="1538280" cy="10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58" y="0"/>
                </a:moveTo>
                <a:cubicBezTo>
                  <a:pt x="4479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5553"/>
                  <a:pt x="21600" y="950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4006800" y="5432400"/>
            <a:ext cx="1800360" cy="938160"/>
            <a:chOff x="4006800" y="5432400"/>
            <a:chExt cx="1800360" cy="938160"/>
          </a:xfrm>
        </p:grpSpPr>
        <p:sp>
          <p:nvSpPr>
            <p:cNvPr id="138" name="Rectangle 9"/>
            <p:cNvSpPr/>
            <p:nvPr/>
          </p:nvSpPr>
          <p:spPr>
            <a:xfrm>
              <a:off x="4006800" y="54324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49760" y="5432400"/>
              <a:ext cx="5144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I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Line 11"/>
          <p:cNvSpPr/>
          <p:nvPr/>
        </p:nvSpPr>
        <p:spPr>
          <a:xfrm>
            <a:off x="5794200" y="6191280"/>
            <a:ext cx="986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942240" y="590544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lect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ater in the da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2998800" y="1627200"/>
            <a:ext cx="1800360" cy="938160"/>
            <a:chOff x="2998800" y="1627200"/>
            <a:chExt cx="1800360" cy="938160"/>
          </a:xfrm>
        </p:grpSpPr>
        <p:sp>
          <p:nvSpPr>
            <p:cNvPr id="144" name="Rectangle 3"/>
            <p:cNvSpPr/>
            <p:nvPr/>
          </p:nvSpPr>
          <p:spPr>
            <a:xfrm>
              <a:off x="2998800" y="1627200"/>
              <a:ext cx="1800360" cy="938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3508560" y="1627200"/>
              <a:ext cx="7808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Da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5"/>
          <p:cNvSpPr/>
          <p:nvPr/>
        </p:nvSpPr>
        <p:spPr>
          <a:xfrm>
            <a:off x="2013120" y="2092320"/>
            <a:ext cx="985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565440" y="3571920"/>
            <a:ext cx="1800360" cy="936720"/>
            <a:chOff x="3565440" y="3571920"/>
            <a:chExt cx="1800360" cy="936720"/>
          </a:xfrm>
        </p:grpSpPr>
        <p:sp>
          <p:nvSpPr>
            <p:cNvPr id="148" name="Rectangle 7"/>
            <p:cNvSpPr/>
            <p:nvPr/>
          </p:nvSpPr>
          <p:spPr>
            <a:xfrm>
              <a:off x="3565440" y="3571920"/>
              <a:ext cx="1800360" cy="936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136760" y="3571920"/>
              <a:ext cx="657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alibri"/>
                </a:rPr>
                <a:t>Cit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Line 9"/>
          <p:cNvSpPr/>
          <p:nvPr/>
        </p:nvSpPr>
        <p:spPr>
          <a:xfrm>
            <a:off x="4809960" y="213372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 flipH="1">
            <a:off x="4465080" y="4041720"/>
            <a:ext cx="143820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91" y="0"/>
                </a:moveTo>
                <a:cubicBezTo>
                  <a:pt x="4045" y="0"/>
                  <a:pt x="0" y="5400"/>
                  <a:pt x="0" y="10800"/>
                </a:cubicBezTo>
                <a:cubicBezTo>
                  <a:pt x="0" y="16200"/>
                  <a:pt x="5400" y="21600"/>
                  <a:pt x="10800" y="21600"/>
                </a:cubicBezTo>
                <a:cubicBezTo>
                  <a:pt x="16200" y="21600"/>
                  <a:pt x="21600" y="14900"/>
                  <a:pt x="21600" y="82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4465800" y="2349360"/>
            <a:ext cx="9442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755360"/>
            <a:ext cx="10098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12000" y="42609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86360" y="1773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Generat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22144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39640" y="5732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information delivered by a feedback can only affect fut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1: Balan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negative, self-correcting, discrepancy-reducing, r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ibrating or goal-seeking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image.pdf"/>
          <p:cNvPicPr/>
          <p:nvPr/>
        </p:nvPicPr>
        <p:blipFill>
          <a:blip r:embed="rId1"/>
          <a:stretch/>
        </p:blipFill>
        <p:spPr>
          <a:xfrm>
            <a:off x="1806480" y="2997360"/>
            <a:ext cx="5645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ffee Cups Cooling or Warm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tock: coffee temperature(t) = coffee temperature(t – dt) – flow x d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itial stock: coffee temperature = 8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, 5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un time = 20 min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low: discrepancy x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crepancy: coffee temperature – room temp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oom temperature: 2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 2: Reinforcing feedback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so positive, self-reinforcing, discrepancy-enhancing, degener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lf-enhancing behavior that leads to growth or even collap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image.pdf"/>
          <p:cNvPicPr/>
          <p:nvPr/>
        </p:nvPicPr>
        <p:blipFill>
          <a:blip r:embed="rId1"/>
          <a:stretch/>
        </p:blipFill>
        <p:spPr>
          <a:xfrm>
            <a:off x="2195640" y="3357720"/>
            <a:ext cx="54054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 R Andrade Nt</cp:lastModifiedBy>
  <dcterms:modified xsi:type="dcterms:W3CDTF">2020-07-30T16:46:46Z</dcterms:modified>
  <cp:revision>4</cp:revision>
  <dc:subject/>
  <dc:title>Feedbacks</dc:title>
</cp:coreProperties>
</file>